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957-451C-422F-A239-FD41F7AA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EB5-A91E-41D9-8500-184A944E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210-475E-4CB1-9EB8-04D5F405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855-8EBA-4F1A-A8CA-9E262D39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C2F-FCB3-4991-80A1-FA3AE576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DF0-7271-4CCF-9D7C-59A32734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E00-765C-4F3F-B7E8-0D8D3F83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185-54B2-4DA1-9373-C717914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732-EA87-49F4-84EC-6B047D09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EE2-7F1A-44FC-B1B8-C22E30C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F5D-EEC6-471A-B1DD-B0998F58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8C9-5695-4E6B-8DFA-ED5C60A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FC14-E2BB-411D-BC8D-6ED0596C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DERS</cp:lastModifiedBy>
  <dcterms:modified xsi:type="dcterms:W3CDTF">2002-03-09T11:13:09Z</dcterms:modified>
  <cp:revision>5</cp:revision>
  <dc:subject/>
  <dc:title>Présentation PowerPoint</dc:title>
</cp:coreProperties>
</file>